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DD1-2267-47A7-998B-51440BEE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2B2-4E0A-44F9-BEFB-BC46096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997-24B0-420D-9032-8168D8B8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8BD-3B78-4436-B61F-9DA6201E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770-44F7-4379-9486-B395CC30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339-95A3-4ADC-8453-84192E8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66AC-CFE3-41BC-8044-90A13C7C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B29-ED39-4EA4-B00C-3410ED7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5113-C72B-48F3-AF10-78E3EEE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114-36F9-430C-9A77-1825DEE7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4DC6-5ADA-4B8B-BC2D-48E1014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BAC-D964-4239-B0B1-401FECE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5CF3-4A97-4216-95B2-8B48B97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41D-6DA6-40B4-8F0A-8FAFB27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B146-FFB4-49FD-91B1-97CCA397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F13-7809-4B5E-A7CE-9E7865BE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563-0FBD-428B-828D-EF2B44C7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408-311F-4C22-B934-CF8C144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355-5648-4473-99A7-38EF584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B6C-3B7B-4142-949C-EE52D8BC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E0A-4A7E-4B84-8FD1-9356973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F7A-C51D-49AE-9DCF-B1D7B1D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214-A183-449A-9A95-EC9B5F4C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6A7-98EB-4BEF-9F6C-D20F699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C44E-F6C7-421C-B6AC-0279A6B4D5C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7EBF-CFED-4F59-A350-23407C7CDAC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990720"/>
            <a:ext cx="7010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楷体_GB2312"/>
              </a:rPr>
              <a:t>孔乙己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809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鲁  迅</a:t>
            </a:r>
            <a:r>
              <a:rPr b="1" lang="zh-CN" sz="6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-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黑体"/>
              </a:rPr>
              <a:t>孔乙己履历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533520"/>
          <a:ext cx="8839440" cy="6305400"/>
        </p:xfrm>
        <a:graphic>
          <a:graphicData uri="http://schemas.openxmlformats.org/drawingml/2006/table">
            <a:tbl>
              <a:tblPr/>
              <a:tblGrid>
                <a:gridCol w="1447920"/>
                <a:gridCol w="2743200"/>
                <a:gridCol w="1676520"/>
                <a:gridCol w="2971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姓孔名不祥绰号孔乙己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籍贯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鲁镇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五十多岁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出生年月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晚清（具体不祥）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学历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童生（未进学）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身体状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身材高大、被打致残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特长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写得一笔好字会茴字的四种写法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单位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家庭成员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工作成就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生活经历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社会关系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优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不拖欠酒钱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有善良而且热心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缺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好喝懒做偷东西迂腐死要面子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总体评价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Comic Sans MS"/>
                <a:ea typeface="黑体"/>
              </a:rPr>
              <a:t>主要社会关系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838080"/>
            <a:ext cx="83055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小伙计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短暂的“师生”关系（可惜“学生”不认“老师”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掌　柜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买卖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短衣帮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同为“站着喝酒”的“酒友”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邻居小孩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一同分吃茴香豆的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丁举人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同为读书人的关系，偷与被偷，被打与打的关系，“摔下来”了的可怜虫与“爬上去”了的胜利者之间的关系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咸亨酒店所有的人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嘲笑与被嘲笑的关系 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763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黑体"/>
                <a:ea typeface="黑体"/>
              </a:rPr>
              <a:t>工作生活经历 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6108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读过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终于但没有进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大半生考功名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替人家钞钞书，连人和书籍纸张笔砚一齐失踪（顺手牵羊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偶然做些窃书的事，被吊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④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常去咸酒店喝酒，受人嘲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⑤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分茴香豆给孩子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⑥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教小伙计识字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因偷丁举人家的东西，被丁举人打断了腿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⑧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用手走来喝酒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(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笑声中出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笑声中退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用手走着退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066680"/>
            <a:ext cx="3267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说一说，讲一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81080" y="28954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眼中的孔乙己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838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华文隶书"/>
                <a:ea typeface="黑体"/>
              </a:rPr>
              <a:t>总评价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5750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是个热衷功名，轻视劳动，好吃懒做，死要面子，迂腐可笑而又有诚实善良一面的读书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5750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孔乙己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名家点评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838080"/>
            <a:ext cx="84582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鲁  迅：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是一个遭社会凉薄的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叶圣陶：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潦倒、不幸的读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李欧梵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美国，芝加哥大学教授）：历史转折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时期，落后于时代的，固守着过去价值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的被侮辱、被损害的读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刘再复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美学家）：贫贱而悲惨的“多余人”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失去人的尊严与资格、被社会所耻的下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知识分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钱理群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北大教授，鲁迅研究专家）：值得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情与焦虑的，有着悲剧性、荒谬性地位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命运的知识分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11430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鲁迅对孔乙己的态度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920" y="2819520"/>
            <a:ext cx="6248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哀其不幸怒其不争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066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81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这个人物形象在今天给我们什么启示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73392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懒惰、要勤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不争、要上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虚荣、要务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838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作业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209680"/>
            <a:ext cx="7010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⒈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造成孔乙己悲剧的原因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⒉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在笑声中出场，在笑声中退场。</a:t>
            </a:r>
            <a:r>
              <a:rPr b="0" lang="zh-CN" sz="3600" spc="-1" strike="noStrike">
                <a:solidFill>
                  <a:srgbClr val="030305"/>
                </a:solidFill>
                <a:latin typeface="Arial"/>
                <a:ea typeface="楷体_GB2312"/>
              </a:rPr>
              <a:t>如何理解各种人对孔乙己的取笑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95280" y="205740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谢谢大家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,</a:t>
            </a: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再见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!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7920" y="2133720"/>
            <a:ext cx="6914880" cy="24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结合图片说说本文写了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孔乙己的哪些生活片断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0" y="260280"/>
            <a:ext cx="5227920" cy="6292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18440" y="304920"/>
            <a:ext cx="127764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酒客揭短，取笑孔乙己偷东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43080" cy="43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032360" cy="43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5257800"/>
            <a:ext cx="57150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酒客嘲笑孔乙己没有“进学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144360"/>
            <a:ext cx="4184640" cy="503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42920"/>
            <a:ext cx="4184640" cy="5038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607000"/>
            <a:ext cx="4495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孔乙己教小伙计识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6840" y="0"/>
            <a:ext cx="4052880" cy="487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4050000" cy="487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5334120"/>
            <a:ext cx="46483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分茴香给孩子们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00120" y="76320"/>
            <a:ext cx="413856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9600" y="304920"/>
            <a:ext cx="729000" cy="571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孔乙己最后一次到酒店喝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9144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762120"/>
          <a:ext cx="8763120" cy="5871960"/>
        </p:xfrm>
        <a:graphic>
          <a:graphicData uri="http://schemas.openxmlformats.org/drawingml/2006/table">
            <a:tbl>
              <a:tblPr/>
              <a:tblGrid>
                <a:gridCol w="1812960"/>
                <a:gridCol w="2417760"/>
                <a:gridCol w="1887480"/>
                <a:gridCol w="264492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籍贯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年龄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出生年月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学历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身体状况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特长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单位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家庭成员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社会关系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生活经历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工作成就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优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缺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总体评价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黑体"/>
              </a:rPr>
              <a:t>孔乙己履历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763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黑体"/>
                <a:ea typeface="黑体"/>
              </a:rPr>
              <a:t>填表说明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84600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⒈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社会关系——是指小说中与孔乙己发生联系的人物。（注明关系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生活关系——是指小说中孔乙己做过的一些事，表达准确清楚，可根据课文语言，也可自己概括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⒉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注意将课文中有关孔乙己的信息都要罗列显示出来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⒊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要想又快又好地填表，小组内一定要讲究分工合作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3:44Z</dcterms:created>
  <dc:creator>101010</dc:creator>
  <dc:description/>
  <dc:language>en-US</dc:language>
  <cp:lastModifiedBy>User</cp:lastModifiedBy>
  <dcterms:modified xsi:type="dcterms:W3CDTF">2014-10-13T11:08:07Z</dcterms:modified>
  <cp:revision>38</cp:revision>
  <dc:subject/>
  <dc:title>PowerPoint 演示文稿</dc:title>
</cp:coreProperties>
</file>